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0FD-BD14-4EC7-A01C-DEBB2D43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0A8-50EA-4612-8A02-32B14C16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C70-E3D9-4E39-B765-E2C14F4A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85A-89E3-4F84-BDFD-072679DC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8753-D36E-4D6E-9461-86E18BC7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E0CB-E006-49FB-A40D-53C312EF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A190-9CF2-40DA-AEBB-683C22E3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E2DD-9F3D-4D68-B753-A351DA8A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BAD5-5A61-4106-B8C6-0E5D1F47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C2C7-B8B7-4CEF-AC38-DB4BD21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FEE3-4BE0-47C0-A2BD-6C19073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BEB-0726-4562-B8DC-950AECA7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EF60-ABF6-475A-A6A7-A2A89E67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8653-065F-410A-8968-2DE9EDEC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5F06-93E9-41D4-8A7B-E379ED42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FA54-8B70-4DDA-8169-06AF5A00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2411-DAA4-4821-A15A-6A2C5E84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B3F7-C6E3-436F-A1D1-4F49D300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D74A-7E75-47EC-BFFE-DC41B5F8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7467-2DCF-432E-AD66-81514431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93A3-2F83-45A4-8BE1-8962968D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689C-F6CE-4A78-ACE1-541FB053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436-A7F2-4B67-A532-FC6F7291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7B73-B79F-43DC-B3C9-5494579F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7C16-7383-4BE3-A34E-51F0E755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A16F-93BB-4A14-B0FA-06690FF7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F2AF-5A50-40A4-9B88-6DC45A8F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7C40-F013-4974-B682-8470C125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1758-FF8E-40A4-8DB2-6C1510B4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ED32-6439-4B39-B317-C9A5AF58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5B11-A222-46FD-84E0-84693DB0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AD6C-7074-4C4C-973D-37541983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A04C-0D8E-4CD8-AD4D-C36E076C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4FC-E130-4A27-B77C-01F27C50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A8C35-3163-4F43-971B-C735460A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806F-00F7-4821-A0D0-43AE2ECE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B71AF-90BF-4774-BDE8-758FCA52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0BF9-DFE8-40F9-85E0-0DD18F98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9BA2-70A2-4E1D-AFEA-5C104872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D3AF7-75E0-4E7A-9D4F-808C9D1C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316E0-4EDB-4401-9C7B-6B424F41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E82C7-8DFB-448C-AD6A-25733390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EB62-CDA8-47D9-A394-8A343D1F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87539-2AB4-48C9-B90C-E38621FE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B1A-DA73-4DF5-8AC7-49566A4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E70B2-41D6-4E54-8EC0-BEEEE40B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8A9CA-27E8-4CD4-8B76-762ADB97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07D3-70FE-4689-9ADB-E4FC69CB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CFF28-63B1-4215-ACE1-16F0FFA4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15A7C-B222-4404-9C20-1E478A0A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BB01-A92B-4FA5-B7EF-40B0E79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04FAC-AE50-4CA3-861D-BFECF71B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32DAD-A2BC-4102-B863-C4BBFF1E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716A-A071-4E55-A203-B7DF9B42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77885-0574-4058-89A5-8FD49122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F69-FE3B-4E1F-ADBD-E7644500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5CAE8-2DBC-4588-98A9-E1309FB7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84A-6856-4AC0-BD81-8FE7088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D77-44FA-4BF1-86DB-398F896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85A-7C76-43A9-80B3-7588A345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A998-2CB9-46C7-9A7D-85FAC7472248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2DA3-6AD2-4229-A9EE-D3FFE7E7A7EA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35D6-CF29-4E46-A1E4-62D3252A1E35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F23A-A659-419F-9977-0E23A1C319CF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927B-0FA6-4340-93E8-CB09A4987667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uschwitz.dk/mengele/id17.htm" TargetMode="External"/><Relationship Id="rId3" Type="http://schemas.openxmlformats.org/officeDocument/2006/relationships/hyperlink" Target="http://www.mengele.dk/new_page_2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96840" y="2577960"/>
            <a:ext cx="8645400" cy="23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0040" y="156060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Nazi Doctor of Auschwitz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2" name="Picture 2" descr="http://bulevoador.haaan.com/wp-content/uploads/2009/10/Josef-mengele.jpg"/>
          <p:cNvPicPr/>
          <p:nvPr/>
        </p:nvPicPr>
        <p:blipFill>
          <a:blip r:embed="rId2"/>
          <a:stretch/>
        </p:blipFill>
        <p:spPr>
          <a:xfrm>
            <a:off x="5867280" y="3657600"/>
            <a:ext cx="2306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ctims of Mengele- </a:t>
            </a:r>
            <a:r>
              <a:rPr b="0" lang="en-US" sz="3000" spc="-1" strike="noStrike" u="sng">
                <a:solidFill>
                  <a:srgbClr val="fa7d7a"/>
                </a:solidFill>
                <a:uFillTx/>
                <a:latin typeface="Corbel"/>
                <a:hlinkClick r:id="rId2"/>
              </a:rPr>
              <a:t>http://www.auschwitz.dk/mengele/id17.h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ngele, Angel of Death- </a:t>
            </a:r>
            <a:r>
              <a:rPr b="0" lang="en-US" sz="3000" spc="-1" strike="noStrike" u="sng">
                <a:solidFill>
                  <a:srgbClr val="fa7d7a"/>
                </a:solidFill>
                <a:uFillTx/>
                <a:latin typeface="Corbel"/>
                <a:hlinkClick r:id="rId3"/>
              </a:rPr>
              <a:t>http://www.mengele.dk/new_page_2.h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152280" y="530280"/>
            <a:ext cx="8620200" cy="156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r. Josef Menge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orn- March 16, 191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ied- 1979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olunteered to  be transferred to Auschwitz after being wounded on the Russian fro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ent 21 months at Auschwitz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ile he was there he performed experiments on the Jewish twins brought to the camp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60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icknamed “the Angel of Death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550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 added to his reputation by added horrible policies including in one account where he drew a line on a wall in the children's block and sending any child who’s head is above the line to the gas chamber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ngele sent hundreds of thousands of Jews to the gas chambe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en, women, children, babi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e account shows the details of a gruesome act performed by Menge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mother didn’t want to separate from her daughter so he sent the whole group he was inspecting to the gas chamber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ngele became obsessed with twins in the camp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04800" indent="-262080">
              <a:spcBef>
                <a:spcPts val="60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gan doing experiments on every pair of twins he could fin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85240" indent="-261720">
              <a:spcBef>
                <a:spcPts val="550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luding blood draining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06000" indent="-306000">
              <a:spcBef>
                <a:spcPts val="70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ngele once gathered 14 pairs of twins from the camp in the nigh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04800" indent="-262080">
              <a:spcBef>
                <a:spcPts val="60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e had them all place on tables in his lab as he put them to sleep and then injected chloroform into their hearts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0" y="530280"/>
            <a:ext cx="8620200" cy="1566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e performed unspeakable experiments on the unaware twins he rounded up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lnSpc>
                <a:spcPct val="80000"/>
              </a:lnSpc>
              <a:spcBef>
                <a:spcPts val="550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luding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jecting their eyes with chemicals to change their eye color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hysical and psychological procedure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xperimental surgeries without anesthesia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lood transfusions between twi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solation enduran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timuli reactio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jections of lethal germ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x change operatio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moval of organs and limb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is experiments are chronicled in the book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The Children of the Flame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 of his approximate three thousands subjec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60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recy of his experiments gave him the privilege of  effectively performing the experimen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led Auschwitz in 194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isguised himself as a regular German infantry soldier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eft Germany in 1948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7" name="Picture 3" descr="Dr_mengele.jpg"/>
          <p:cNvPicPr/>
          <p:nvPr/>
        </p:nvPicPr>
        <p:blipFill>
          <a:blip r:embed="rId2"/>
          <a:stretch/>
        </p:blipFill>
        <p:spPr>
          <a:xfrm>
            <a:off x="4724280" y="3581280"/>
            <a:ext cx="25448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fter he ran from Germany to South America he lived for 35 years under many different alia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 eventually died in 1979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e had a stroke while swimming in the ocean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0" name="Picture 3" descr="1276da10.jpg"/>
          <p:cNvPicPr/>
          <p:nvPr/>
        </p:nvPicPr>
        <p:blipFill>
          <a:blip r:embed="rId2"/>
          <a:stretch/>
        </p:blipFill>
        <p:spPr>
          <a:xfrm>
            <a:off x="2590920" y="4191120"/>
            <a:ext cx="16761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06:29Z</dcterms:created>
  <dc:creator> </dc:creator>
  <dc:description/>
  <dc:language>en-US</dc:language>
  <cp:lastModifiedBy> </cp:lastModifiedBy>
  <dcterms:modified xsi:type="dcterms:W3CDTF">2009-11-24T17:22:13Z</dcterms:modified>
  <cp:revision>16</cp:revision>
  <dc:subject/>
  <dc:title>Slide 1</dc:title>
</cp:coreProperties>
</file>